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FAB0-0D04-479E-B9DA-65EC4FE2B62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1659-55B8-43F7-8A3D-C6CD1C7492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1D9B-8597-4171-8B1D-FFD5CD9AD875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6036-9C2A-4624-A882-C013C20B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3C1F-1F95-4B08-B7BB-31A82433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EA1-9E9F-4303-9841-5B177E89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BBE-5EB8-40D4-A81C-6A62E359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C94A-3FFC-4429-8A03-FA3A0E50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17E1-18A5-4A45-9E5D-26BEE5A3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8D9F-5191-4656-9F13-B37986F9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73EB-6E17-42B2-A403-A474E890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830C-1AA8-4F71-9CD1-E2FE953E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40E6-08EE-417E-80D2-2D0DB5CB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F871-C830-4ACE-ACA2-5C09346B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B262-2027-4CB5-87F8-D608AFA8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AEF7-C60C-4B70-8B52-ABF647B8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E081-30E9-4EF1-AD10-5F3F690F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A36A-6840-4485-8008-23D0238E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1FDD-9E56-425F-961B-3D34F1EC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EF45-D753-4830-859F-CB9DA798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F522-107B-4CC1-85E9-44CD5399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DB2-906D-4AC1-98D1-408E83DC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17A-47BE-4805-8E40-B50A7B91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F629-FC07-4BE2-BDEF-EE3981DF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8D5-2EC1-47B4-9861-DFE3DA2E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23A7-D8F0-4589-AEF0-90EFFF13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E696-7F16-481E-B02B-2AFF46AC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7834-6297-49D7-BDDC-CAE0CCB0AB8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880"/>
              <a:ext cx="3624120" cy="6136200"/>
              <a:chOff x="5406480" y="56880"/>
              <a:chExt cx="3624120" cy="61362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200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480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440" y="25873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924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104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6640" y="124020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120" y="2930040"/>
                <a:ext cx="523800" cy="3268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320" y="288720"/>
              <a:ext cx="892800" cy="825840"/>
              <a:chOff x="5647320" y="28872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920" y="78372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404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680" y="38844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29800"/>
              <a:chOff x="968760" y="525672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20600"/>
                <a:ext cx="25092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192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6054-4BED-4AD5-87C8-F6B96EEC65D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Bellring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What does the O in H</a:t>
            </a:r>
            <a:r>
              <a:rPr b="0" lang="en-US" sz="40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O stand for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Hydrogen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Carbon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Oxygen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Osmium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genda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nticipatory Se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-50904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o no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-50904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omework chec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05040" indent="-50904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eriodic table puzz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09040" indent="-50904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ot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09040" indent="-50904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eriodic Table Gam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09040" indent="-50904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dependent Practi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09040" indent="-50904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os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41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66"/>
                </a:solidFill>
                <a:uFillTx/>
                <a:latin typeface="Antique Olive Compact"/>
              </a:rPr>
              <a:t>8.2 Periodic Table Pattern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9" name="Picture 7" descr="periodic_table"/>
          <p:cNvPicPr/>
          <p:nvPr/>
        </p:nvPicPr>
        <p:blipFill>
          <a:blip r:embed="rId1"/>
          <a:stretch/>
        </p:blipFill>
        <p:spPr>
          <a:xfrm>
            <a:off x="990720" y="1600200"/>
            <a:ext cx="701028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885840" y="914040"/>
            <a:ext cx="5257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99"/>
                </a:solidFill>
                <a:uFillTx/>
                <a:latin typeface="Verdana"/>
              </a:rPr>
              <a:t>The atomic number is the number of protons in an atom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99"/>
                </a:solidFill>
                <a:uFillTx/>
                <a:latin typeface="Verdana"/>
              </a:rPr>
              <a:t>The atomic mass is the weight of the atom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7" descr="atomicnumber"/>
          <p:cNvPicPr/>
          <p:nvPr/>
        </p:nvPicPr>
        <p:blipFill>
          <a:blip r:embed="rId1"/>
          <a:stretch/>
        </p:blipFill>
        <p:spPr>
          <a:xfrm>
            <a:off x="152280" y="1523880"/>
            <a:ext cx="3267360" cy="164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helium"/>
          <p:cNvPicPr/>
          <p:nvPr/>
        </p:nvPicPr>
        <p:blipFill>
          <a:blip r:embed="rId2"/>
          <a:stretch/>
        </p:blipFill>
        <p:spPr>
          <a:xfrm>
            <a:off x="228600" y="3429000"/>
            <a:ext cx="3048120" cy="21938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tomic Number and Mas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66"/>
                </a:solidFill>
                <a:latin typeface="Verdana"/>
              </a:rPr>
              <a:t>Periodic Table Boxes</a:t>
            </a:r>
            <a:endParaRPr b="0" lang="en-US" sz="5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6248520" y="2797200"/>
            <a:ext cx="1904760" cy="2593440"/>
          </a:xfrm>
          <a:prstGeom prst="rect">
            <a:avLst/>
          </a:prstGeom>
          <a:noFill/>
          <a:ln w="9360">
            <a:solidFill>
              <a:srgbClr val="1018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01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10101"/>
                </a:solidFill>
                <a:latin typeface="Verdana"/>
              </a:rPr>
              <a:t>Si</a:t>
            </a:r>
            <a:endParaRPr b="0" lang="en-US" sz="5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01"/>
                </a:solidFill>
                <a:latin typeface="Verdana"/>
              </a:rPr>
              <a:t>28.086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01"/>
                </a:solidFill>
                <a:latin typeface="Verdana"/>
              </a:rPr>
              <a:t>Silico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Right Arrow 6"/>
          <p:cNvSpPr/>
          <p:nvPr/>
        </p:nvSpPr>
        <p:spPr>
          <a:xfrm>
            <a:off x="4952880" y="2819520"/>
            <a:ext cx="1828800" cy="274680"/>
          </a:xfrm>
          <a:prstGeom prst="rightArrow">
            <a:avLst>
              <a:gd name="adj1" fmla="val 50000"/>
              <a:gd name="adj2" fmla="val 49934"/>
            </a:avLst>
          </a:prstGeom>
          <a:solidFill>
            <a:srgbClr val="edfad2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1219320" y="2590920"/>
            <a:ext cx="3886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010101"/>
                </a:solidFill>
                <a:uFillTx/>
                <a:latin typeface="Verdana"/>
              </a:rPr>
              <a:t>Atomic number</a:t>
            </a:r>
            <a:endParaRPr b="0" lang="en-US" sz="3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TextBox 8"/>
          <p:cNvSpPr/>
          <p:nvPr/>
        </p:nvSpPr>
        <p:spPr>
          <a:xfrm>
            <a:off x="1752480" y="4267080"/>
            <a:ext cx="358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010101"/>
                </a:solidFill>
                <a:uFillTx/>
                <a:latin typeface="Verdana"/>
              </a:rPr>
              <a:t>Atomic mass</a:t>
            </a:r>
            <a:endParaRPr b="0" lang="en-US" sz="3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Right Arrow 9"/>
          <p:cNvSpPr/>
          <p:nvPr/>
        </p:nvSpPr>
        <p:spPr>
          <a:xfrm>
            <a:off x="4952880" y="4495680"/>
            <a:ext cx="1828800" cy="274680"/>
          </a:xfrm>
          <a:prstGeom prst="rightArrow">
            <a:avLst>
              <a:gd name="adj1" fmla="val 50000"/>
              <a:gd name="adj2" fmla="val 49934"/>
            </a:avLst>
          </a:prstGeom>
          <a:solidFill>
            <a:srgbClr val="edfad2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ight Arrow 10"/>
          <p:cNvSpPr/>
          <p:nvPr/>
        </p:nvSpPr>
        <p:spPr>
          <a:xfrm>
            <a:off x="5029200" y="3657600"/>
            <a:ext cx="1828800" cy="274680"/>
          </a:xfrm>
          <a:prstGeom prst="rightArrow">
            <a:avLst>
              <a:gd name="adj1" fmla="val 50000"/>
              <a:gd name="adj2" fmla="val 49934"/>
            </a:avLst>
          </a:prstGeom>
          <a:solidFill>
            <a:srgbClr val="edfad2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Right Arrow 11"/>
          <p:cNvSpPr/>
          <p:nvPr/>
        </p:nvSpPr>
        <p:spPr>
          <a:xfrm>
            <a:off x="5029200" y="5105520"/>
            <a:ext cx="175248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edfad2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1523880" y="4952880"/>
            <a:ext cx="358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010101"/>
                </a:solidFill>
                <a:uFillTx/>
                <a:latin typeface="Verdana"/>
              </a:rPr>
              <a:t>Element name</a:t>
            </a:r>
            <a:endParaRPr b="0" lang="en-US" sz="3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3124080" y="3429000"/>
            <a:ext cx="358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010101"/>
                </a:solidFill>
                <a:uFillTx/>
                <a:latin typeface="Verdana"/>
              </a:rPr>
              <a:t>Symbol</a:t>
            </a:r>
            <a:endParaRPr b="0" lang="en-US" sz="33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Valence Electron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6699"/>
                </a:solidFill>
                <a:uFillTx/>
                <a:latin typeface="Verdana"/>
              </a:rPr>
              <a:t>Valence electrons increase from 1-8 across the periodic table.</a:t>
            </a:r>
            <a:endParaRPr b="0" lang="en-US" sz="3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21" descr="PERTABLE"/>
          <p:cNvPicPr/>
          <p:nvPr/>
        </p:nvPicPr>
        <p:blipFill>
          <a:blip r:embed="rId1"/>
          <a:stretch/>
        </p:blipFill>
        <p:spPr>
          <a:xfrm>
            <a:off x="2881440" y="3359160"/>
            <a:ext cx="6186240" cy="34225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2895480" y="305928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1    2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3   4  5   6  7  8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Let’s Practice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does Zr stand for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is the atomic mass of boron (B)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is the atomic number of argon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ow many valence electrons does nitrogen hav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is the symbol for chlorin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Let’s Practice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en is writing a report about lead.  He made the following lis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 Lead’s symbol is Pb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 Lead’s atomic Number is 8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 Lead’s atomic Mass is 200.1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 Lead has 4 valence electr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ich of the above pieces of information is incorrect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2:50:58Z</dcterms:created>
  <dc:creator>edesobe</dc:creator>
  <dc:description/>
  <dc:language>en-US</dc:language>
  <cp:lastModifiedBy>Caroline Roth</cp:lastModifiedBy>
  <cp:lastPrinted>2009-09-14T04:40:09Z</cp:lastPrinted>
  <dcterms:modified xsi:type="dcterms:W3CDTF">2011-03-22T03:37:34Z</dcterms:modified>
  <cp:revision>26</cp:revision>
  <dc:subject/>
  <dc:title>The Circulatory System</dc:title>
</cp:coreProperties>
</file>